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594-1B22-4879-A62B-EB01221C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D5C-803D-422D-918F-6C2EF70E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600-EEDD-4261-BF53-B69542F2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AD5-C86F-4D03-9B6A-BBD8E71D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566-B5D6-448C-9DA0-9D054B5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CFE-8B4B-4735-9CEE-51F100E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3B6-4886-4557-8E04-F404FA8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A20-902C-4128-9F71-81CB209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9A5-11B1-466A-89A9-D5B570A7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97F-3894-48DA-B114-D657DFB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6CD-45EC-4663-9326-6ECC4D5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B6D-E44F-44AE-80AC-7E54807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EA6D-1A17-4C04-9B1A-8C204CDD6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Dra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  <a:ea typeface="Arial"/>
              </a:rPr>
              <a:t>é Cra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97160" y="1849320"/>
            <a:ext cx="63496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Art 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gres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Portrait of Nicolo Paganini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819, Romant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3907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Kollwitz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Suicide Victim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28, Expression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21040" y="2293920"/>
            <a:ext cx="33004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egas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Dancer adjusting her Slipper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873, Impression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2533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oble, </a:t>
            </a:r>
            <a:r>
              <a:rPr b="0" i="1" lang="en-US" sz="3600" spc="-1" strike="noStrike">
                <a:solidFill>
                  <a:srgbClr val="000000"/>
                </a:solidFill>
                <a:latin typeface="Garamond"/>
              </a:rPr>
              <a:t>Nobspital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1997-98, Conceptual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1800" y="1600200"/>
            <a:ext cx="266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ritical Think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Metalpoint vs. Charco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610000" cy="3714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8102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n-Wester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236680" cy="4200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230364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ilverpoi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24240" y="2243160"/>
            <a:ext cx="2495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mputer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ilverpoint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61840" y="2624040"/>
            <a:ext cx="3229200" cy="2476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52920" y="3052800"/>
            <a:ext cx="242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Bind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086280" cy="210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060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Pas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0200" y="2471760"/>
            <a:ext cx="355284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5600" y="2503440"/>
            <a:ext cx="3462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Was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84440" y="1728720"/>
            <a:ext cx="397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Pi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28920" y="2411280"/>
            <a:ext cx="291960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nceptual a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352680" cy="265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619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Gestu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20720" y="1600200"/>
            <a:ext cx="351144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270504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17:45:28Z</dcterms:created>
  <dc:creator>Sheila Levi-Aland</dc:creator>
  <dc:description/>
  <dc:language>en-US</dc:language>
  <cp:lastModifiedBy>Sheila</cp:lastModifiedBy>
  <dcterms:modified xsi:type="dcterms:W3CDTF">2005-05-16T21:25:38Z</dcterms:modified>
  <cp:revision>17</cp:revision>
  <dc:subject/>
  <dc:title>Drawing</dc:title>
</cp:coreProperties>
</file>